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6F8-148B-4335-AF18-41D2C7D0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01A-9E2A-4580-91D9-531A4DC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116-42EB-4A65-8882-D7924E58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078-E83A-4396-B4AD-25846FC0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89A-3D0C-4A08-9DEF-0E5B1802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427-EEEA-4CA5-988B-B4E12A40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9DB-B89C-4DF7-9E33-8A7C7EFA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490-D7E3-427A-BCDE-9691B5C4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34A-C2E2-476F-9BCC-74C3A033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DC6-331C-4AD2-A5EA-F8E9A29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1E1-C2FA-46E2-A25D-49DB81E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D9B-4225-4598-B2C3-91CCC128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E1E-7680-4D81-8742-1ADE9EE2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ко написати рад за предмет “Стоматологија заснована на доказима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Слободан Јан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скус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рвом делу дискусије сумирати резултате свих анализираних студ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другом делу дискусије упоредити своје резултате са резултатима систематских прегледних чланака других аутора који су писалли на исту тему (обавезно проверити Кохранову базу подата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ставове поткрепљивати референцама, које се цитирају помоћу редних бројева, и наводе у “Литератур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једном пасусу дати закључак о теми која је била предмет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де не цитирати рефере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ар је онај закључак, који је сасвим јасан ономе ко га је писа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 се по редоследу појављивања у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ференце су нумерисане редним броје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ти референце по Ванкуверским правил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имери навођења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 у часопису: (сви аутори се наводе а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је 6 или мање; ако их је више, наводе с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 прва три уз "et al."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ley NJ, Zinsmeister AR, Schleck CD, Melton Љ. Dyspepsia and dyspeptic subgroups: a population based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. Gastroenterology 1992; 102: 1259-6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њ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rlock S. Diseases of the live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biliary system. 8th ed. Oxford: Blackwell Sc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, 1989. Поглавље у књизи: 24. Trier JJ. Celiac sprue. In: Sleisenger MH, Fordtran JS, eds. Gastrointestinal disease. 4th ed. Philadelphia: WB Saunders Co, 1989: 1134-5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изворе са интернета на кра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ференце треба додати у малој загради UL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ресу и датум када је посећена, нпр. (Посећено у септембру 2007 на www.medf.kg.ac.yu). Ако постоји дигитални код такве референце, уместо ULR треба навести DOI, нпр. (doi: 10.1111/j.1442-2042.2007.01834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хнички детаљ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 се пише ћирил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раћенице енглеских назива и мерне јединице се пишу латин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нт: Тајмс њу роман, 12, са 1.5 прор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ргине 2.5 центиме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рмат А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 не коричити, само захев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штампати у једном приме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авезно припремити електронску верзију рада у пдф формату на диску и понети са собом на исп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руктура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ловна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же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тегија претраживања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итеријуми за укључивање и искључивање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итеријуми за процену валидности, значајности и примењ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а пронађених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ку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хнички детаљ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словна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рада (тема) : треба да садржи независну варијаблу, компаратор, исход и попу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е и презиме студента, број ин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метни наста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студијског про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факултета и дат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ажет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ако се налази после насловне стране, пише се на кр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жине око 300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следеће дел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и део садржи свега 2-3 реченице, и одражава суштину одговарајућег дела 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вести и 3 кључне речи на кра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ажетку се референце не цитир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рвом пасусу објаснити шта се до сада зна о теми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другом пасусу објаснити шта није познато о теми рада д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трећем пасусу објаснити шта ће ваш рад допринети у разјашњењу непознатих чињ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у тврдњу ппдржати референ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ференце се наводе помоћу редних бројева, а цитирају истим редоследом у одељку “Литератур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тратегија претраживања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базе које су претражив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сваку базу навести све комбинације кључних речи које су коришћ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сваку комбинацију кључних речи навести колико је студија пронађено, и разврстати их по категоријама (нпр. клиничка студија, прегледни чланак, експериментална студија на животињама, ит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ритеријуми за укључивање и искључивање 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врсту студија која се узима у обзир, нпр. клиничке студије терапијског ефекта, или студије прогностичк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врсте студија које се не узимају у обзир, нпр. Прегледни чланци, експерименталне студије на животињама, прикази случајева, ит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ритеријуми за процену валидности, значајности и примењ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таксативно критеријуме које ћете користити за процену валидности, значајности и примењивости пронађених студија, које задовољавају критеријуме за укључивање и не испуњавају критеријуме за искључ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за сту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у од студија која задовољава критеријуме за укључивање посебно анализирати у погледу валидности, значајности и примењ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истите критеријуме које сте навели у методоло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рачунајте све потребне параметре и прикажите их у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8:17:49Z</dcterms:created>
  <dc:creator>Student</dc:creator>
  <dc:description/>
  <dc:language>en-US</dc:language>
  <cp:lastModifiedBy>Slobodan Jankovic</cp:lastModifiedBy>
  <dcterms:modified xsi:type="dcterms:W3CDTF">2013-03-27T17:50:18Z</dcterms:modified>
  <cp:revision>11</cp:revision>
  <dc:subject/>
  <dc:title>Slide 1</dc:title>
</cp:coreProperties>
</file>